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2.png" ContentType="image/png"/>
  <Override PartName="/ppt/media/image10.wmf" ContentType="image/x-wmf"/>
  <Override PartName="/ppt/media/image25.png" ContentType="image/png"/>
  <Override PartName="/ppt/media/image30.wmf" ContentType="image/x-wmf"/>
  <Override PartName="/ppt/media/image28.wmf" ContentType="image/x-wmf"/>
  <Override PartName="/ppt/media/image3.png" ContentType="image/png"/>
  <Override PartName="/ppt/media/image11.wmf" ContentType="image/x-wmf"/>
  <Override PartName="/ppt/media/image31.wmf" ContentType="image/x-wmf"/>
  <Override PartName="/ppt/media/image32.wmf" ContentType="image/x-wmf"/>
  <Override PartName="/ppt/media/image7.wmf" ContentType="image/x-wmf"/>
  <Override PartName="/ppt/media/image8.wmf" ContentType="image/x-wmf"/>
  <Override PartName="/ppt/media/image33.wmf" ContentType="image/x-wmf"/>
  <Override PartName="/ppt/media/image37.gif" ContentType="image/gif"/>
  <Override PartName="/ppt/media/image34.wmf" ContentType="image/x-wmf"/>
  <Override PartName="/ppt/media/image9.wmf" ContentType="image/x-wmf"/>
  <Override PartName="/ppt/media/image35.wmf" ContentType="image/x-wmf"/>
  <Override PartName="/ppt/media/image38.png" ContentType="image/png"/>
  <Override PartName="/ppt/media/image39.png" ContentType="image/png"/>
  <Override PartName="/ppt/media/image13.wmf" ContentType="image/x-wmf"/>
  <Override PartName="/ppt/media/image5.png" ContentType="image/png"/>
  <Override PartName="/ppt/media/image12.wmf" ContentType="image/x-wmf"/>
  <Override PartName="/ppt/media/image4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36.jpeg" ContentType="image/jpeg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B55-BD69-440E-A2D5-F71FFE4C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606D-C727-4BC1-8776-E7314781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9F6F-F03A-4F77-BAF1-0B2390CB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1F01-72CB-4B93-AEE7-243B05E09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02FC-3E16-4678-8C26-6CA7870A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4D74-15A0-4F8F-835F-454DEB22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74F9-105E-4921-B7C5-848773A0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99D6-F736-44F8-A941-1E75FF69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DE21-B9A3-4D57-B1DD-1DDB0D4B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4B3A-3751-4E42-A441-98CB4090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AB51-E095-4023-9F21-B387AB57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CA33-8E85-4A6A-A6FD-48801F0B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FA0A-D091-4F80-88FA-60DF14DFB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5.wmf"/><Relationship Id="rId6" Type="http://schemas.openxmlformats.org/officeDocument/2006/relationships/image" Target="../media/image35.wmf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66680" y="1674360"/>
            <a:ext cx="8872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.2.2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反　证　法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50920" y="906480"/>
            <a:ext cx="86202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解析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根据反证法的定义知①②③均可作为条件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答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①②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50920" y="906480"/>
            <a:ext cx="86202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,b,c,d∈R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d-bc=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求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: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+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+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+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+ab+cd≠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50920" y="906480"/>
            <a:ext cx="86202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证明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ab+cd=1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ab+cd-ad+bc=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a+b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(c+d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(a-d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(b+c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+b=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+d=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-d=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+c=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=b=c=d=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d-bc=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矛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假设不成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结论成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50920" y="906480"/>
            <a:ext cx="86202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知识探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探究点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反证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反证法的“反设”是否命题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提示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不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反证法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反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是对命题结论的否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50920" y="906480"/>
            <a:ext cx="86202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反证法证题的核心是什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提示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核心是推出矛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50920" y="906480"/>
            <a:ext cx="86202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归纳总结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对反证法的三点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反证法不是直接去证明结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而是先否定结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在否定结论的基础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运用演绎推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导出矛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从而肯定结论的真实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50920" y="906480"/>
            <a:ext cx="86202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反证法属逻辑方法范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它的严谨体现在它的原理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即“否定之否定等于肯定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其中第一个否定是指“否定结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假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)”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第二个否定是指“逻辑推理的结果否定了假设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反证法属“间接解题方法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书写格式易错之处是“假设”易错写成“设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50920" y="906480"/>
            <a:ext cx="86202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并非所有问题都可采用反证法证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只有当问题从正面求解不好处理时或较繁琐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才考虑反证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50920" y="906480"/>
            <a:ext cx="8620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反证法证题的本质、常用的反证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本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用反证法证题的实质就是否定结论导出矛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从而证明原结论正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否定结论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对结论的反面要一一否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不能遗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常用的反证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否定一个反面的反证法称为归谬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否定两个或两个以上反面的反证法称为穷举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50920" y="906480"/>
            <a:ext cx="86202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易错警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用反证法证题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否定结论”在推理论证中作为已知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导出矛盾是指在假设的前提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逻辑推理结果与“已知条件、假设、公理、定理或显然成立的事实”等相矛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图片5"/>
          <p:cNvPicPr/>
          <p:nvPr/>
        </p:nvPicPr>
        <p:blipFill>
          <a:blip r:embed="rId1"/>
          <a:srcRect l="0" t="52381" r="0" b="0"/>
          <a:stretch/>
        </p:blipFill>
        <p:spPr>
          <a:xfrm>
            <a:off x="7985160" y="90324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核心考点（8字）"/>
          <p:cNvPicPr/>
          <p:nvPr/>
        </p:nvPicPr>
        <p:blipFill>
          <a:blip r:embed="rId2"/>
          <a:stretch/>
        </p:blipFill>
        <p:spPr>
          <a:xfrm>
            <a:off x="1838160" y="711360"/>
            <a:ext cx="5288040" cy="5918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244440" y="990720"/>
            <a:ext cx="86202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自主预习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反证法的定义及证题关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1227240" y="2892600"/>
            <a:ext cx="6460920" cy="38829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5400720" y="2705040"/>
            <a:ext cx="17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不成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6896160" y="3425760"/>
            <a:ext cx="17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假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011400" y="3792600"/>
            <a:ext cx="17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错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5065560" y="3794040"/>
            <a:ext cx="17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原命题成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482920" y="5491080"/>
            <a:ext cx="17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已知条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4819680" y="5479920"/>
            <a:ext cx="17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假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6664320" y="5491080"/>
            <a:ext cx="17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定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1380960" y="5870520"/>
            <a:ext cx="14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定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2174760" y="5870520"/>
            <a:ext cx="14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公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2968560" y="5881680"/>
            <a:ext cx="14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事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33280" y="1333440"/>
            <a:ext cx="8620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类型一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用反证法证明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定性命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典例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.(2016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武汉高二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用反证法证明命题“如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&gt;b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那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&gt;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假设的内容是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.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=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　　　　　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B.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&lt;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.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≤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D.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&lt;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=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核心考点（8字）"/>
          <p:cNvPicPr/>
          <p:nvPr/>
        </p:nvPicPr>
        <p:blipFill>
          <a:blip r:embed="rId1"/>
          <a:stretch/>
        </p:blipFill>
        <p:spPr>
          <a:xfrm>
            <a:off x="1889280" y="776160"/>
            <a:ext cx="528768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50920" y="906480"/>
            <a:ext cx="8620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.(2016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德州高二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用反证法证明“一个三角形不能有两个直角”有三个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:①A+B+C=90°+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+C&gt;180°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这与三角形的内角和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8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矛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故假设错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;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所以一个三角形不能有两个直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;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假设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中有两个直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不妨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=B=9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上述步骤的正确顺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50920" y="906480"/>
            <a:ext cx="86202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解题探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典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中结论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&gt;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的反面是什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提示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250920" y="906480"/>
            <a:ext cx="86202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典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①②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在反证法中各是什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提示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是推出矛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作出结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是反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50920" y="906480"/>
            <a:ext cx="8620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解析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假设的内容应为结论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&gt;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的否定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≤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故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反证法证题的三步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否定结论、导出矛盾、得出结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正确的顺序应为③①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①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250920" y="906480"/>
            <a:ext cx="8620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方法技巧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用反证法证明否定性命题的适用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结论中含有“不”“不是”“不可能”“不存在”等词语的命题称为否定性命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此类问题的正面比较模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而反面比较具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适合使用反证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50920" y="906480"/>
            <a:ext cx="86202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用反证法证明数学命题的步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Image0133.jpeg" descr=""/>
          <p:cNvPicPr/>
          <p:nvPr/>
        </p:nvPicPr>
        <p:blipFill>
          <a:blip r:embed="rId1"/>
          <a:stretch/>
        </p:blipFill>
        <p:spPr>
          <a:xfrm>
            <a:off x="1800360" y="2470320"/>
            <a:ext cx="54864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50920" y="906480"/>
            <a:ext cx="8620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特别提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: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用反证法证题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首先要搞清反证法证题的思路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其次注意反证法是在条件较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直接证明不易入手时常用的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结论中含有“不”“不是”“不可能”“不存在”“没有”等词语的否定性命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结论的反面比较具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适于应用反证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注意否定结论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要准确无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50920" y="906480"/>
            <a:ext cx="942948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变式训练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2016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沈阳高二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已知三个正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,b,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成等比数列但不成等差数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求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: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不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等差数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6622920" y="2300400"/>
            <a:ext cx="1295640" cy="48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50920" y="906480"/>
            <a:ext cx="862020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证明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设        成等差数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+c+2    =4b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,b,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等比数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ac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+c+2    =4    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0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=c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=b=c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与已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,b,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成等差数列矛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假设不正确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        不成等差数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2565360" y="1351080"/>
            <a:ext cx="1295280" cy="487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6229440" y="1332000"/>
            <a:ext cx="1968480" cy="503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3"/>
          <a:stretch/>
        </p:blipFill>
        <p:spPr>
          <a:xfrm>
            <a:off x="1708200" y="2273400"/>
            <a:ext cx="533520" cy="473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4"/>
          <a:stretch/>
        </p:blipFill>
        <p:spPr>
          <a:xfrm>
            <a:off x="6064200" y="3198960"/>
            <a:ext cx="584280" cy="473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5"/>
          <a:stretch/>
        </p:blipFill>
        <p:spPr>
          <a:xfrm>
            <a:off x="2060640" y="4102200"/>
            <a:ext cx="533160" cy="473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6"/>
          <a:stretch/>
        </p:blipFill>
        <p:spPr>
          <a:xfrm>
            <a:off x="3146400" y="4125960"/>
            <a:ext cx="533520" cy="471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7"/>
          <a:stretch/>
        </p:blipFill>
        <p:spPr>
          <a:xfrm>
            <a:off x="4559400" y="4114800"/>
            <a:ext cx="1041480" cy="471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8"/>
          <a:stretch/>
        </p:blipFill>
        <p:spPr>
          <a:xfrm>
            <a:off x="3432240" y="5935680"/>
            <a:ext cx="129528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31840" y="826920"/>
            <a:ext cx="8620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即时小测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命题“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若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&gt;∠B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&gt;b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的结论的否定应该是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.a&lt;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B.a≤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.a=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D.a≥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50920" y="906480"/>
            <a:ext cx="925812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类型二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反证法证明“至多”“至少”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典例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2016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威海高二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已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,b,c∈(0,1)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:(1-a)b,(1-b)c,(1-c)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不能都大于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6311880" y="2967120"/>
            <a:ext cx="2412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50920" y="906480"/>
            <a:ext cx="86202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解题探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典例中“不能都大于”的含义是什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提示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不能都大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的含义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至少有一个小于或等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其对立面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全部大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50920" y="906480"/>
            <a:ext cx="8620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证明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-a)b,(1-b)c,(1-c)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大于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,b,c∈(0,1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a&gt;0,1-b&gt;0,1-c&gt;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7188120" y="1182600"/>
            <a:ext cx="241560" cy="870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1087560" y="3822840"/>
            <a:ext cx="3689280" cy="930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1154160" y="4898880"/>
            <a:ext cx="341316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50920" y="906480"/>
            <a:ext cx="86202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式相加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矛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-a)b,(1-b)c,(1-c)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能都大于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2189160" y="1176480"/>
            <a:ext cx="4651200" cy="906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801720" y="2114640"/>
            <a:ext cx="727200" cy="839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3"/>
          <a:stretch/>
        </p:blipFill>
        <p:spPr>
          <a:xfrm>
            <a:off x="6473880" y="2982960"/>
            <a:ext cx="2318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231840" y="826920"/>
            <a:ext cx="94010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延伸探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已知实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,b,c∈[0,1]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(1-b)+b(1-c)+c(1-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最大值为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B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D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673200" y="3789360"/>
            <a:ext cx="241200" cy="870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4406760" y="3824280"/>
            <a:ext cx="24156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50920" y="906480"/>
            <a:ext cx="8620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析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构造函数法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变量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(a)=a(1-b)+b(1-c)+c(1-a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关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次函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=1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(1)=1-b+b-bc=1-bc≤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=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(0)=b-bc+c=b+c-bc-1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-(1-b)(1-c)+1≤1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31840" y="826920"/>
            <a:ext cx="86202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一次函数最大值在端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取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(0),f(1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小于等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0,1]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f(a)≤1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(1-b)+b(1-c)+c(1-a)≤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(1-b)+b(1-c)+c(1-a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最大值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得最大值的条件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,b,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一个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另一个可以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0,1]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的任意一个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250920" y="906480"/>
            <a:ext cx="86202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已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,b,c∈(0,2)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求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:(2-a)b,(2-b)c,(2-c)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不能都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50920" y="906480"/>
            <a:ext cx="8620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证明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-a)b,(2-b)c,(2-c)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大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,b,c∈(0,2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a&gt;0,2-b&gt;0,2-c&gt;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098720" y="3878280"/>
            <a:ext cx="3359160" cy="890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1130400" y="4816440"/>
            <a:ext cx="3419280" cy="892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3"/>
          <a:stretch/>
        </p:blipFill>
        <p:spPr>
          <a:xfrm>
            <a:off x="380880" y="5743440"/>
            <a:ext cx="3311640" cy="8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50920" y="906480"/>
            <a:ext cx="86202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式相加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&gt;3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矛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-a)b,(2-b)c,(2-c)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能都大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76200" y="2090880"/>
            <a:ext cx="503892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31840" y="826920"/>
            <a:ext cx="86202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解析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B.“a&gt;b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的对立面为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a≤b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50920" y="906480"/>
            <a:ext cx="86202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方法技巧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证明时常见的“结论词”与“反设词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344520" y="2303640"/>
            <a:ext cx="839772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50920" y="906480"/>
            <a:ext cx="915336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补偿训练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用反证法证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关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的方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+4ax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4a+3=0,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+(a-1)x+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=0,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+2ax-2a=0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≤-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≥-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至少有一个方程有实数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7416720" y="2085840"/>
            <a:ext cx="24156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50920" y="906480"/>
            <a:ext cx="86202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证明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设三个方程都没有实数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由判别式都小于零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480960" y="2970360"/>
            <a:ext cx="54612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50920" y="906480"/>
            <a:ext cx="86202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 &lt;a&lt;-1,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≤-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≥-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矛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原命题成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282680" y="1160640"/>
            <a:ext cx="241200" cy="868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1501920" y="2098800"/>
            <a:ext cx="2412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50920" y="906480"/>
            <a:ext cx="935352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延伸探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若关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的方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-4x+2a-3=0,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-6x+3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+12=0,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+3x-a+   =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中至少有一个方程有实数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的取值范围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2879640" y="2075040"/>
            <a:ext cx="381240" cy="8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50920" y="906480"/>
            <a:ext cx="93628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析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三个方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4x+2a-3=0,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6x+3a+12=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3x-a+   =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至少有一个方程有实数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假设这三个方程都没有实数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三个方程的判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式都是负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1784520" y="2085840"/>
            <a:ext cx="38088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250920" y="906480"/>
            <a:ext cx="9362880" cy="48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              所以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a&lt;4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三个方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4x+2a-3=0,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6x+3a+12=0,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3x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   =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至少有一个方程有实数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实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取值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围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≤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≥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≤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≥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4330800" y="1571760"/>
            <a:ext cx="241200" cy="869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1117440" y="782640"/>
            <a:ext cx="2451240" cy="2451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3"/>
          <a:stretch/>
        </p:blipFill>
        <p:spPr>
          <a:xfrm>
            <a:off x="565200" y="4064040"/>
            <a:ext cx="380880" cy="869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4"/>
          <a:stretch/>
        </p:blipFill>
        <p:spPr>
          <a:xfrm>
            <a:off x="1625760" y="4967280"/>
            <a:ext cx="241200" cy="870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5"/>
          <a:stretch/>
        </p:blipFill>
        <p:spPr>
          <a:xfrm>
            <a:off x="1768320" y="5881680"/>
            <a:ext cx="24156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250920" y="906480"/>
            <a:ext cx="86202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类型三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用反证法证明存在性、唯一性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典例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在用反证法证明“两条相交直线有且只有一个交点”时的反设应分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证明方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=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有且只有一个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50920" y="906480"/>
            <a:ext cx="86202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解题探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典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中两直线的交点个数有几种情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提示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、无数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250920" y="906480"/>
            <a:ext cx="86202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典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中“有且只有”的含义是什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提示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表示存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只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表示唯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31840" y="826920"/>
            <a:ext cx="8620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实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,b,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不全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等价于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.a,b,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均不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B.a,b,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中至多有一个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.a,b,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中至少有一个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D.a,b,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中至少有一个不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250920" y="906480"/>
            <a:ext cx="86202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解析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两条直线的交点个数包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没有交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有且只有一个交点和不只有一个交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故“有且只有一个交点”的反设应为无交点和不只有一个交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答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无交点　不只有一个交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50920" y="906480"/>
            <a:ext cx="8620200" cy="52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3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=log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说明方程有一个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用反证法证明方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根是唯一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设方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两个根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b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b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≠b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3,   =3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式相除得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b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0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1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与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矛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b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0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1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与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矛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806400" y="4119480"/>
            <a:ext cx="384120" cy="424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1841400" y="4118040"/>
            <a:ext cx="419040" cy="426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3"/>
          <a:stretch/>
        </p:blipFill>
        <p:spPr>
          <a:xfrm>
            <a:off x="2763720" y="5079960"/>
            <a:ext cx="723960" cy="424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4"/>
          <a:stretch/>
        </p:blipFill>
        <p:spPr>
          <a:xfrm>
            <a:off x="4735440" y="4145040"/>
            <a:ext cx="723960" cy="422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5"/>
          <a:stretch/>
        </p:blipFill>
        <p:spPr>
          <a:xfrm>
            <a:off x="2763720" y="6014880"/>
            <a:ext cx="723960" cy="424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"/>
          <p:cNvPicPr/>
          <p:nvPr/>
        </p:nvPicPr>
        <p:blipFill>
          <a:blip r:embed="rId6"/>
          <a:stretch/>
        </p:blipFill>
        <p:spPr>
          <a:xfrm>
            <a:off x="4970520" y="5983200"/>
            <a:ext cx="723960" cy="424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"/>
          <p:cNvPicPr/>
          <p:nvPr/>
        </p:nvPicPr>
        <p:blipFill>
          <a:blip r:embed="rId7"/>
          <a:stretch/>
        </p:blipFill>
        <p:spPr>
          <a:xfrm>
            <a:off x="4941720" y="5068800"/>
            <a:ext cx="72396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906480"/>
            <a:ext cx="8620200" cy="25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b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0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b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≠b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矛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方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根多于两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样可以推出矛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且只有一个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250920" y="906480"/>
            <a:ext cx="862020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方法技巧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证明“唯一性”问题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唯一性”包含“有一个”和“除了这个没有另外一个”两层意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证明后一层意思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采用直接证明往往会相当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因此一般情况下都采用间接证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即用反证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假设“有另外一个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推出矛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或同一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假设“有另外一个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推出它就是“已知那一个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证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而用反证法有时比用同一法更方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50920" y="906480"/>
            <a:ext cx="86202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提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证明“有且只有”的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需要证明两个命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即存在性和唯一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250920" y="906480"/>
            <a:ext cx="86202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变式训练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若函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f(x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在区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[a,b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上的图象连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f(a)&lt;0,f(b)&gt;0,f(x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[a,b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上单调递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求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:f(x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a,b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内有且只有一个零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解题指南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先用零点存在性定理证明存在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再用反证法证明唯一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250920" y="906480"/>
            <a:ext cx="86202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证明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(x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a,b]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的图象连续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(a)&lt;0,f(b)&gt;0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(a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·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(b)&lt;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(x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a,b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至少存在一个零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零点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(m)=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(x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a,b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还存在另一个零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(n)=0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≠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50920" y="906480"/>
            <a:ext cx="86202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&gt;m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(n)&gt;f(m)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&gt;0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矛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&lt;m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(n)&lt;f(m)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&lt;0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矛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此假设不正确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(x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a,b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有且只有一个零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50920" y="906480"/>
            <a:ext cx="86202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补偿训练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用反证法证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过已知直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外一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有且只有一条直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与已知直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平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250920" y="906480"/>
            <a:ext cx="86202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证明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两条直线平行的定义和几何图形可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至少有一条直线与直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设过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有一条直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′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已知直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∩b′=A,b′∥a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∥a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平行公理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′∥b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与假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∩b′=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矛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假设错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命题成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50920" y="906480"/>
            <a:ext cx="86202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解析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D.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不全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0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的对立面为“全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0”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故“不全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0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的含义为“至少有一个不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0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250920" y="906480"/>
            <a:ext cx="86202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自我纠错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用反证法证明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典例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已知实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满足不等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2p+1)(p+2)&lt;0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用反证法证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关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的方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-2x+5-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=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无实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50920" y="906480"/>
            <a:ext cx="86202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失误案例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0135.jpeg" descr=""/>
          <p:cNvPicPr/>
          <p:nvPr/>
        </p:nvPicPr>
        <p:blipFill>
          <a:blip r:embed="rId1"/>
          <a:stretch/>
        </p:blipFill>
        <p:spPr>
          <a:xfrm>
            <a:off x="2676600" y="2013120"/>
            <a:ext cx="416232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50920" y="906480"/>
            <a:ext cx="86202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分析解题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找出错误之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并写出正确答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提示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错误的根本原因是对反证法的理解不正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实际上反证法证明问题的步骤为假设结论不成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经过推理得出矛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否定假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肯定结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本解法没有用到假设的结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不是反证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正确的解答过程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50920" y="906480"/>
            <a:ext cx="86202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析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设方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2x+5-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实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该方程的判别式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Δ=4-4(5-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=4(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4)≥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≤-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≥2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≤-2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+2≤0,2p+1&lt;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+2)(2p+1)≥0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+2)(2p+1)&lt;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矛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≥2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+2&gt;0,2p+1&gt;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50920" y="906480"/>
            <a:ext cx="86202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+2)(2p+1)&gt;0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+2)(2p+1)&lt;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矛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假设不成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关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方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2x+5-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实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4"/>
          <p:cNvPicPr/>
          <p:nvPr/>
        </p:nvPicPr>
        <p:blipFill>
          <a:blip r:embed="rId1"/>
          <a:stretch/>
        </p:blipFill>
        <p:spPr>
          <a:xfrm>
            <a:off x="2800440" y="3279600"/>
            <a:ext cx="3552840" cy="1781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核心考点（8字）"/>
          <p:cNvPicPr/>
          <p:nvPr/>
        </p:nvPicPr>
        <p:blipFill>
          <a:blip r:embed="rId2"/>
          <a:stretch/>
        </p:blipFill>
        <p:spPr>
          <a:xfrm>
            <a:off x="1981080" y="2347920"/>
            <a:ext cx="528804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4"/>
          <p:cNvPicPr/>
          <p:nvPr/>
        </p:nvPicPr>
        <p:blipFill>
          <a:blip r:embed="rId1"/>
          <a:stretch/>
        </p:blipFill>
        <p:spPr>
          <a:xfrm>
            <a:off x="2789280" y="3129120"/>
            <a:ext cx="3552840" cy="1780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课时提升作业"/>
          <p:cNvPicPr/>
          <p:nvPr/>
        </p:nvPicPr>
        <p:blipFill>
          <a:blip r:embed="rId2"/>
          <a:stretch/>
        </p:blipFill>
        <p:spPr>
          <a:xfrm>
            <a:off x="1935000" y="2193840"/>
            <a:ext cx="528804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50920" y="906480"/>
            <a:ext cx="86202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用反证法证明命题“三角形的内角中至少有一个不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60°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反设正确的是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假设三内角都不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假设三内角都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假设三内角至多有一个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假设三内角至多有两个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50920" y="906480"/>
            <a:ext cx="86202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解析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B.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三个内角至少有一个不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60°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的含义是有一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两个或三个内角不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60°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所以否定是“都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60°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50920" y="906480"/>
            <a:ext cx="86202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应用反证法推出矛盾的过程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要把下列哪些作为条件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__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填序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结论的否定即反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;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原命题的条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;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公理、定理、定义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;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原命题的结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1T03:22:35Z</dcterms:created>
  <dc:creator>资料来源：淘宝店铺：日出分享（有效店铺）或者  日出教育（有效店铺）    
更新更多资料请加ＱＱ２２８４７１８３００
微信：17728178930
微信不常用，建议加QQ
店铺链接：https://shop152652799.taobao.com/shop/view_shop.htm?tracelog=twddp&amp;user_number_id=1741707622
或者：https://shop112180859.taobao.com/shop/view_shop.htm?spm=a313o.7775905.a1zvx.d53.vrIcCV&amp;mytmenu=mdianpu&amp;user_number_id=2160821148
</dc:creator>
  <dc:description>资料来源：淘宝店铺：日出分享（有效店铺）或者  日出教育（有效店铺）    
更新更多资料请加ＱＱ２２８４７１８３００
微信：17728178930
微信不常用，建议加QQ
店铺链接：https://shop152652799.taobao.com/shop/view_shop.htm?tracelog=twddp&amp;user_number_id=1741707622
或者：https://shop112180859.taobao.com/shop/view_shop.htm?spm=a313o.7775905.a1zvx.d53.vrIcCV&amp;mytmenu=mdianpu&amp;user_number_id=2160821148
</dc:description>
  <cp:keywords>资料来源：淘宝店铺：日出分享（有效店铺）或者  日出教育（有效店铺）    
更新更多资料请加ＱＱ２２８４７１８３００
微信：17728178930
微信不常用，建议加QQ
店铺链接：https://shop152652799.taobao.com/shop/view_shop.htm?tracelog=twddp&amp;user_number_id=1741707622
或者：https://shop112180859.taobao.com/shop/view_shop.htm?spm=a313o.7775905.a1zvx.d53.vrIcCV&amp;mytmenu=mdianpu&amp;user_number_id=2160821148
</cp:keywords>
  <dc:language>en-US</dc:language>
  <cp:lastModifiedBy>Windows 用户</cp:lastModifiedBy>
  <dcterms:modified xsi:type="dcterms:W3CDTF">2017-07-23T14:21:57Z</dcterms:modified>
  <cp:revision>12</cp:revision>
  <dc:subject>资料来源：淘宝店铺：日出分享（有效店铺）或者  日出教育（有效店铺）    
更新更多资料请加ＱＱ２２８４７１８３００
微信：17728178930
微信不常用，建议加QQ
店铺链接：https://shop152652799.taobao.com/shop/view_shop.htm?tracelog=twddp&amp;user_number_id=1741707622
或者：https://shop112180859.taobao.com/shop/view_shop.htm?spm=a313o.7775905.a1zvx.d53.vrIcCV&amp;mytmenu=mdianpu&amp;user_number_id=2160821148
</dc:subject>
  <dc:title>资料来源：淘宝店铺：日出分享（有效店铺）或者  日出教育（有效店铺）    
更新更多资料请加ＱＱ２２８４７１８３００
微信：17728178930
微信不常用，建议加QQ
店铺链接：https://shop152652799.taobao.com/shop/view_shop.htm?tracelog=twddp&amp;user_number_id=1741707622
或者：https://shop112180859.taobao.com/shop/view_shop.htm?spm=a313o.7775905.a1zvx.d53.vrIcCV&amp;mytmenu=mdianpu&amp;user_number_id=2160821148
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0d0000000000010250500207f7000400038000</vt:lpwstr>
  </property>
  <property fmtid="{D5CDD505-2E9C-101B-9397-08002B2CF9AE}" pid="3" name="Version">
    <vt:r8>1</vt:r8>
  </property>
</Properties>
</file>